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577-9F17-4868-AB2B-E0CAC0CF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13B-511D-4CE5-80D0-B49C07E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E5F-B3FC-4F53-AC46-70FAA471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A2B-AF43-4ACF-90B7-544F602B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9055-6EAE-4B60-A82F-8A14ACF0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302A-6AE5-4868-83EE-ABA1F18E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6EF-1731-404B-A589-CDF00FA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BC8C-C759-4127-BB47-8232A7C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B3A5-F686-4688-A918-A2DC500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AC47-0288-4FC6-AB0A-60B50BB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A20-6DA9-4B6D-863C-7785A01B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923-6025-4EAB-841D-D59B227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F3ED-D0CB-44C5-9646-D8E5094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50ED-131B-486E-BD83-51898FB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E237-58FF-4A88-82F7-5030CE72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FE3-2D04-4238-B6F1-A04FC4CE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2CF-9274-4F27-B77A-77DA34CD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C77-3F42-4F2B-9299-DC15D2E6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DD0-4761-4D1B-A210-4A1C1C1B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1C-C1DE-460F-A822-8D8CDC0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CE7-4444-46BD-BD5E-BF165F05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E31-0CA6-41C4-A8BE-28350B7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0CD-90E8-40E9-9C94-512CA52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9D9-6EBA-4F37-9341-8745B7B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C56-33A9-44C3-B471-45C89445731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ABBB-704A-4A44-816E-BD12F9B2E2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64 bit Kogge-Stone Adders in different logic styles – A study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b McNi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tyanand Nal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for the carry tree is the path for C0 as this consists entirely of invert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distribution for the static cmos adder is shown. The mean was 144 p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input vectors (in hex)  are A=0000 0000 0000 0001 B=0000 0000 0000 0000 -&gt; 0000 0000 0000 000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93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Dynamic log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6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 dissip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3962520"/>
          <a:ext cx="8229240" cy="2189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tatic CM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1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ynamic Log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.7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P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.2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wer dissipation was measured for the three adders using spectre for th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novelty: Using a high VT footer to reduce leakage power in OPL gat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ed High VT footer transistor, in order to reduce leakage power in standby mode for the OPL ad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ers added to the basic sub-block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VT transistor modeled by applying a negative voltage to the bulk of the footer transisto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age power re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x reduction in leakage power got by using the high VT footer in the OPL add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743200" y="3886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/o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3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ith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54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. A 0.5V, 400MHz, VDD-Hopping Processor with Zero-VTH FD-SOI Technolog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iroshi Kawaguchi, Kouichi Kanda ISSCC 2003 / SESSION 6 / LOW-POWER DIGITAL TECHNIQUES / PAPER 6.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Output prediction logic: a high-performance CMOS design technique McMurchie, L.; Kio, S.; Yee, G.; Thorp, T.; Sechen, C.; Computer Design, 2000. Proceedings. 2000 International Conference on 17-20 Sept. 2000 Page(s):247 - 25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. 409ps 4.7 FO4 64b adder based on output prediction logic in 0.18um CMOS Sheng Sun; Yi Han; Xinyu Guo; Kian Haur Chong; McMurchie, L.; Sechen, C.; VLSI, 2005. Proceedings. IEEE Computer Society Annual Symposium on 11-12 May 2005 Page(s):52 - 5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compare speed and power dissipation of 64-bit Kogge Stone Adder in 3 logic sty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C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ynamic Log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Output Prediction Logic (OP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reduce leakage power dissipation in OPL circuits using MTCMOS techniqu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chnology used – 90nm P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erarchical desig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rting sub-blocks (dot and square) to implement the nodes of the Kogge-Stone t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lement the basic sub-blocks in static, dynamic and OPL-static sty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imal changes to the tree netlist to construct the 3 add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chematic for 16 bit adder is shown. Can be extended for a 64 bit add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238520" y="1599840"/>
            <a:ext cx="1600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60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ematic for 16 bit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746360"/>
            <a:ext cx="51818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put Prediction Logic (OP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gic style that can be applied to different logic styles to increase spe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ains attributes of the underlying family (e.g Static, Dynamic, Pseudo-nmos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es on alternating nature of logical output values of a critical path, i.e, for any critical path the outputs of the gates along the paths will be alternating zeros and o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oncep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L predicts that every output will be 1 after the transitions are comple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ce all gates are inverting, the predictions will be correct one half of the time =&gt; at least 2X speed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: One at the output of every inverting gate is not a stable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0718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353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-state each gate with a clock =&gt; 1 at input and 1 output is possi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 shown – 3 input nor gate in OPL-static, where the predicted value is a 1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K=0 =&gt; gate is tristated, with output precharged to 1.  CLK=1 =&gt; conventional CMOS g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7403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PL clocking: Chain of OPL ga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265200" cy="127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836800" cy="140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954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loc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ess =&gt; heavy glitching and precharge value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arge =&gt; minimal glitching, but speedup achieved is limited by the clock, not by the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timal Clock separation =&gt; limited glitching and circuit is not clock-block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2:29:37Z</dcterms:created>
  <dc:creator>Satyanand Vijay Nalam</dc:creator>
  <dc:description/>
  <dc:language>en-US</dc:language>
  <cp:lastModifiedBy>Satyanand Vijay Nalam</cp:lastModifiedBy>
  <dcterms:modified xsi:type="dcterms:W3CDTF">2006-12-04T18:05:32Z</dcterms:modified>
  <cp:revision>112</cp:revision>
  <dc:subject/>
  <dc:title>64 bit Kogge-Stone Adders in different logic styles – A study</dc:title>
</cp:coreProperties>
</file>